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F02-8B3A-417D-979E-6AE4FA62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FFA-6004-499E-8105-EC37F8B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5C9-A236-45B1-BFD2-D577FDEA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01B-B3F0-4E9B-AFE6-DC071ABC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9C3CD-4A48-4410-A735-45B0CC4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D4B4D-CEC5-4EA3-B189-169D8C0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4CDD8-97DD-4AC0-8F1A-C91EF72A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24CEC-FD25-4E13-A8F2-2ABA4F5D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07AEC-3BAD-4606-8188-EACD6317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019F9-A8D2-40FE-B8C6-C66B5CD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9A37C-D497-4721-A59D-05BDF01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569-0667-435E-A014-FDBE4B3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954A4-9037-4446-96C2-CBDBA42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F3B1F-97F9-47EA-BA22-3222578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1CC2C-F515-45BF-8081-F5AF4280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DE4C1-0226-4451-90E0-727083DA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B40AE-382D-4088-ABC0-560CF2BA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4BFD-3C80-4FE5-BB90-9711BB8B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CCE5-BBC9-4226-960F-31BDFD6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3BD4-504E-475F-8B5F-3A65C64A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C5F3-498E-4EF4-AB97-1BFB4736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8AE0-BDEB-418A-AAF6-6FA032C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083-E67B-4130-997C-6D066A87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74C1-2DF8-49A3-BBAA-419D5700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997C-3010-4ED4-8C79-27632FBB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AC6E-D69F-4AB1-8B45-0D669AF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5072-766B-47F5-B8D8-21B0504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20BD-D936-4CE8-9060-B43D9FD5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6BF6-1460-4FDF-8DA1-5BC2512F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983D-E319-44C1-90F5-119147AF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D26-6A94-457C-9299-C139D638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BC9-82B0-455C-80B7-501B74B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799-6DDC-41BE-AE81-3EE0099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1A9-A02F-4C39-A613-03DEBA5B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EF6-9F6F-4725-A580-EA78264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341-2AEE-4CFA-84C6-9152EBD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42B4-F11B-4ADC-90DC-12F538AC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937C-AD94-4459-B50E-F2193C2D3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1D88-15F7-409D-BC3E-9C42A004C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Shape is Our Earth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by Mrs. Schiebel’s     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: John, Andy, Becky, 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untain is a landform that rises high above its surrou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aller than a hill, and usually has steep slopes and a rounded or sharp pe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of mountains are called r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510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, pointy and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: Christopher, Megan, Nathan, 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are landform that are high but not as tall a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have rounded tops, not pointy like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 and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: Jhessail, Victory, Destiny, Yv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ley is a landform that is like a large ditch, usually between mountains or 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valleys are formed by rivers. They can get wider ove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lleys were made thousands of years ago by glac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dips down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3:42:14Z</dcterms:created>
  <dc:creator>esc8859</dc:creator>
  <dc:description/>
  <dc:language>en-US</dc:language>
  <cp:lastModifiedBy>esc8859</cp:lastModifiedBy>
  <dcterms:modified xsi:type="dcterms:W3CDTF">2009-07-02T04:57:19Z</dcterms:modified>
  <cp:revision>3</cp:revision>
  <dc:subject/>
  <dc:title>Land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