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2B1-E1A8-4E1E-A74A-58C2C4EC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4D2-2064-4013-AAA6-B0759D0C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B126-CC0E-4297-AFC9-471D7034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8BC0-96C3-4D62-A3E0-D842DA8D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5B855-E056-4E62-8934-01899EAC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05B72-D7E9-4199-B956-CD55264A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A7B4D-A5B8-4691-99DE-1E540642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EE398-DA21-4A50-9CC0-D937667E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80257-57D8-418E-8B9B-96532EDC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E54D1-A5F9-4BA0-8693-CCC2EE14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C562D-8F60-47DB-ABBB-4163AF0C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311-333D-4F73-935C-0D395F33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9E934-3A77-489D-8F5C-124158B9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6095D-8298-448D-9E4B-B8A76D3A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73A52-0D90-41FC-8BDC-6FDF1B0F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38C51-F151-49B2-BAE0-FC2BA75B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A080A-A865-4493-B615-E9FCFF6F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98157-CE26-4258-B9CC-12EAA2A2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8F995-E42A-437E-BAD2-25EACE80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B8B5B-C8EF-421B-8EB8-C08080D0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5ECF6-EA40-4753-AFFC-A80A8A40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B81F1-485E-4856-BD5F-87181F63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4CE-47AA-44B9-8F57-FE81ED2B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1CA81-50C3-48A6-A8ED-31D733FA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3497A-EE35-455B-AE55-DABEEE7B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0FC52-7127-4189-A217-3F054079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EAFD0-40DF-4916-9641-843604B0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D37A2-667F-44A3-9609-F1F2AB2B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577B1-3E33-4CAC-BE06-9A32264D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1F329-E646-467C-94CD-22856412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2789-8A34-4C11-BF36-F2B4F124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BA9A-E59A-4E3E-8547-2B741919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413-B964-4687-9600-EEF0FE4D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48B5-A514-4067-A7CC-92143907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E24-9ECF-4188-9697-E3BA9CAC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D60-3FF5-4BC5-967A-468C430C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F5FB-B340-4CF7-965D-8C0B03393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2328-26C4-4EC0-AA44-66CA9BC12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294A-6CEF-4D6E-B822-6CA469577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What Shape is Our Earth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ed by Mrs. Schiebel’s     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de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ains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: John, Andy, Becky, Ral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untain is a landform that rises high above its surround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taller than a hill, and usually has steep slopes and a rounded or sharp pea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 of mountains are called ran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Cited: Encyclopedia Britann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2697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38080" y="51055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learned that our Earth is bumpy, pointy and t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s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: Christopher, Megan, Nathan, 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s are landform that are high but not as tall as 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s have rounded tops, not pointy like 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Cited: Encyclopedia Britann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5105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learned that our Earth is bumpy and hig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6576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ley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: Jhessail, Victory, Destiny, Yv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lley is a landform that is like a large ditch, usually between mountains or hi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valleys are formed by rivers. They can get wider over many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valleys were made thousands of years ago by glac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Cited: Encyclopedia Britann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5105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learned that our Earth dips down 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03:42:14Z</dcterms:created>
  <dc:creator>esc8859</dc:creator>
  <dc:description/>
  <dc:language>en-US</dc:language>
  <cp:lastModifiedBy>esc8859</cp:lastModifiedBy>
  <dcterms:modified xsi:type="dcterms:W3CDTF">2009-07-02T04:57:19Z</dcterms:modified>
  <cp:revision>3</cp:revision>
  <dc:subject/>
  <dc:title>Landfor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