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095-1C2E-44EC-A825-AE5DBDC0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D4A-70B1-4F51-8C67-8265D944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CA3-E83B-441E-9A0A-BAD4261A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C66-92F3-4F82-B269-32CA4810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A2567-1BA4-4205-8179-AACDC977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2B1A2-BF8E-49EA-B79F-26A7CB6E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7D641-8A2D-452F-9198-0B7CB069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2F15B-1502-4904-AB7B-F1E416CA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C1288-BFFD-4E4D-81A5-71F5E0DA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BE58F-0F7F-497F-8615-C9BA8B5C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A0181-192F-49B4-833C-10FCD285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202-A86A-497A-8F75-29473937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BAF66-361F-4A29-86B9-816487E9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585CE-BBCB-4412-87D3-A77ED2CC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63672-B3F7-41EC-914F-9CAA7E41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565B2-28EF-48A8-BCE3-9F3BEC32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93E1A-0636-4632-8CED-CFEC1A69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5C5FB-68A4-42B8-89BD-CD1F8CF2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9632A-14B6-4E47-AC3D-952BD37F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62511-1908-4CE4-9115-37563C88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5A42-1675-473B-8429-81AE88D4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F322-5C2D-45F9-B84C-243A2DE7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3C5-ACCF-4283-B033-B093607A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E6CD-7EF9-428D-961A-1E5F6ACF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FE47E-48B5-45A7-A099-D11626B3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FC9A-2658-4BED-864B-E4D3344B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FA95-FCDA-4EB1-8695-9D4F603A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6E636-9E37-4ADF-AB60-C0F612D3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B01CB-88E0-42ED-AFE9-41C85609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E4F8E-981C-471F-9782-60A86A3E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A16-9488-433B-BC4D-D6C808AF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572-75BA-428F-8D12-73E4161B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6B2-0C8F-48CC-91A4-A0E5C0C2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38D-94F1-41CC-9444-BE3CF040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537-7287-4A81-8AA4-4BFB031F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28D-558F-4CBF-A176-660E1317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70C3-9487-4583-9E2A-2B0005061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37F4-098D-4542-A0C7-C4211D891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6BA6-B207-4DE2-BF57-0550C7581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at Shape is Our Earth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ed by Mrs. Schiebel’s     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de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ains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: John, Andy, Becky, Ral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untain is a landform that rises high above its surround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taller than a hill, and usually has steep slopes and a rounded or sharp pea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of mountains are called r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2697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38080" y="51055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is bumpy, pointy and t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s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: Christopher, Megan, Nathan, 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 are landform that are high but not as tall as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 have rounded tops, not pointy like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5105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is bumpy and hig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ley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: Jhessail, Victory, Destiny, Yv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ley is a landform that is like a large ditch, usually between mountains or hi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valleys are formed by rivers. They can get wider over many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valleys were made thousands of years ago by glac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105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dips down 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3:42:14Z</dcterms:created>
  <dc:creator>esc8859</dc:creator>
  <dc:description/>
  <dc:language>en-US</dc:language>
  <cp:lastModifiedBy>esc8859</cp:lastModifiedBy>
  <dcterms:modified xsi:type="dcterms:W3CDTF">2009-07-02T04:57:19Z</dcterms:modified>
  <cp:revision>3</cp:revision>
  <dc:subject/>
  <dc:title>Landfor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