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7D5-5068-4899-B8F7-E34882A7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800-5E54-4627-A436-2C254433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CDC-ED1F-41FB-BBCC-49B34B97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767-C4DE-4E6A-9594-788949B1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69BC9-2A78-4A78-9154-A248A06F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DA5BB-5AD2-4B2E-AEF0-7D90FF7A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884EE-07FE-4334-A1F6-0FCD1E52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0A48A-848E-4CAB-B658-F2D218EF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8DF33-0386-4E6A-9AB3-87EB8EDC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A797E-4572-4A8B-ADC5-EA2F9E66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06028-2845-4AE3-A453-440ADC0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F3E-421C-4DDE-BF03-CEA55C58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D1E64-E919-46DB-8DF7-AB728A05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37D83-C90E-412A-8BC7-9683848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C03EB-BE05-4C70-96AD-7BADEC16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F2EEE-C480-4E1F-A33E-62B10C2E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96EA1-8297-41C3-B44A-AF9080C0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5A24-30A8-49F8-AAEA-088872B8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A52A-4D1F-4A35-AA34-590143E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5501-2255-406D-8618-C52FD6FE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59F5-48DC-4B7D-874B-A382AECA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2DE3-26BC-43D0-888F-8133A90A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EE6-9DFC-4820-A4DB-477C4F69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CAF3-A3E0-4DC9-B036-4917DF88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8C27-4DCD-49A0-BB4C-FAB45EB3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F905-E7EA-4F8B-A465-BC8FEC3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75ED-B9FF-4886-8779-198E20FA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CEEF6-AC6B-4615-B4EC-FCA80FDD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0065-819C-4E21-9636-97BBFFD9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1979C-2829-4329-B25E-0BB5617B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771-1EEB-4BB6-8243-E2B36CB3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A70-DAD7-42E6-88BD-C276D177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540-F8C9-45B9-9CEE-1D3E92B4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44F-E548-4B6A-BE5B-2DA04761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20E-7265-4B13-A69C-32280FB4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4F9-C200-4FA2-9A27-9492D175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0C88-46E2-469E-9293-BA7AA65CC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20E2-ED32-4B0C-8426-F9F777632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0542-A9F4-4196-A355-42FB4CBAD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at Shape is Our Earth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d by Mrs. Schiebel’s     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: John, Andy, Becky, 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untain is a landform that rises high above its surroun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taller than a hill, and usually has steep slopes and a rounded or sharp pe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of mountains are called r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2697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51055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, pointy and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: Christopher, Megan, Nathan, 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are landform that are high but not as tall a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have rounded tops, not pointy like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 and hi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: Jhessail, Victory, Destiny, Yv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ley is a landform that is like a large ditch, usually between mountains or hi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valleys are formed by rivers. They can get wider ove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alleys were made thousands of years ago by glac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dips down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3:42:14Z</dcterms:created>
  <dc:creator>esc8859</dc:creator>
  <dc:description/>
  <dc:language>en-US</dc:language>
  <cp:lastModifiedBy>esc8859</cp:lastModifiedBy>
  <dcterms:modified xsi:type="dcterms:W3CDTF">2009-07-02T04:57:19Z</dcterms:modified>
  <cp:revision>3</cp:revision>
  <dc:subject/>
  <dc:title>Land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