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3ED-48D7-470A-939C-EDA64A8F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970-611C-4B58-9012-87521D70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348-00AB-42B1-9CC9-B84593C4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03F-6C41-4099-9FB6-01124B3F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459C-BCCD-41DF-9CD2-8B2FB96C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73D6D-11CD-46C7-9D23-B4430DFE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1F99D-452A-44D9-AB3A-A526A3FC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CCA9C-7894-43C2-9714-976BCE8A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11BD5-9845-41B0-A7EE-5FDEB931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D9349-3E8D-46BE-B1A8-61957FC1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04BFB-21E5-4CBD-BC5C-E5B777B6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D34-B0D8-44B1-8AD3-95AC7F85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9E5A4-0FDA-4AD4-8531-B0DE7FB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9A12A-1875-4051-9A06-32ECCB51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AE26E-A403-4A55-8F6F-373949F3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EE58C-ED27-4228-A65B-C7CB42C3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2AE23-9CFB-46A1-B8DD-56050F7F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A8FD-6BB0-423B-97F0-13D22955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0AC3-00C6-4307-85B7-4391874D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3AB3-350E-4303-88A2-EAFDC122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5AB7-EC1E-41FF-8F05-CC33CAF3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750A6-6B64-4C4B-8E6D-1E10975B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3BC-FA2C-4750-8C0A-5A7B592F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792C-7CF1-4122-8C40-AE263434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6A9A-B1D6-4D62-A4E4-E32E595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F146-623C-4BD9-9115-9EA89328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A8955-CC1F-42E0-A678-6B201B3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1596-E34D-4F12-9DD2-524ADBB2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CFC4-74E5-496D-AA9B-00CED58B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CA34-3749-4563-BFC1-A836ED80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92C-A0A4-4015-B0B7-7A5AF361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2DB-4B50-4BA7-8BE5-FC05970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332-56A9-4B20-A9D7-BD90E3AC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9AB-945B-4C0B-AFA1-FBC3A86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C1D-A3A8-4A7F-B4D5-29465E1F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066-E9F6-4FBD-9E9B-29A8D8D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43BD-FEFD-4C4A-98D4-5F70A98BC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A532-06EA-4570-9C97-550A582D7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ED46-9D31-4DDC-93EA-61DCEDB6A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at Shape is Our Earth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by Mrs. Schiebel’s     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: John, Andy, Becky, 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untain is a landform that rises high above its surrou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taller than a hill, and usually has steep slopes and a rounded or sharp pe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of mountains are called r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5105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, pointy and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: Christopher, Megan, Nathan, 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are landform that are high but not as tall a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have rounded tops, not pointy like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 and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: Jhessail, Victory, Destiny, Yv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ley is a landform that is like a large ditch, usually between mountains or h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valleys are formed by rivers. They can get wider ove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alleys were made thousands of years ago by glac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dips down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3:42:14Z</dcterms:created>
  <dc:creator>esc8859</dc:creator>
  <dc:description/>
  <dc:language>en-US</dc:language>
  <cp:lastModifiedBy>esc8859</cp:lastModifiedBy>
  <dcterms:modified xsi:type="dcterms:W3CDTF">2009-07-02T04:57:19Z</dcterms:modified>
  <cp:revision>3</cp:revision>
  <dc:subject/>
  <dc:title>Land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