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1546-1408-4BB9-9615-603E4336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6ABA-0DD8-4FB1-95D7-C4DD1B5F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23D4-1CDD-4DF1-9D75-16434737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51B9-EAEA-476B-B0DF-FD573166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4516-2739-4C6C-8BCD-EF2ECC3E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5DB2-76D0-47D8-ADB9-F83947C6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9CD9-867A-483C-854A-3CB2AEF4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E918-5B9E-4FF2-B382-0BE2378B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DBC8-8DB3-4ACF-9E99-780D4AD2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8634-BF34-4598-86FD-11D0F167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810F-24BB-4842-8360-A00D0852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EE52-BA22-40D8-B042-14B798DD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24CC-E5A0-4572-92FF-6E7EFFD4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C154-D493-4D72-8103-5C3A97CD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32BE-9B82-4B6B-BC99-FA3306CA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2B79-A6A3-4B50-BABA-D95B7B3D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0AA3-80C1-40F5-A53A-4E19EE4A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649366-0A99-4572-A56C-BC968925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0EBF4-2648-4EBD-92DD-3ADC6967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BA5DFF-EF32-4AC4-AB77-7852733C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02A9E-386B-46F4-898D-C0166E32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549457-DE7E-4AC6-A1F9-DD443926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33CB-73D0-48A1-8729-E05A2416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20CA5C-22C9-4E66-9398-3C53A5DB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CF7E66-472B-4805-976D-2587BDB8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CBDE5-E754-473E-AA3C-10E64A95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F07BD-10D4-4506-A1BB-03E50056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D2C737-4DEC-4E3D-8DD7-DB85B03C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41558D-5045-4B83-9575-C736064A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A2E964-1AAE-40E1-9182-004E43C0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38FC9-12F4-45E8-86B7-8A1F8CAE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117B1-A50C-428E-906B-9491C4F5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404CB-E063-47E5-89D5-0D4A886D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DB74-D1B5-4B05-A71D-510EE2D5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FAADD-2FE8-49DC-B45D-3BE78F94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3D3FC-7B3B-49CB-8EFE-DD489368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26C6C-F705-48AF-8C76-8CD9441C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B1DCA-C2D7-4D92-8494-784B9555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E8679-9FB3-48C7-8879-EEBE6923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B0038-8532-4B6B-BB9C-A208C619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E425C-B2DC-468E-B738-D2D5D671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F5025-623B-40D8-A9CF-A9E9C324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BD353-33C2-41DB-B608-44D147AA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399079-137E-4054-AD64-2D817741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C7BE-C806-49A6-914F-30A0F0C0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BC8361-ED6F-4A06-B826-FDE70C56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2F6904-2F03-4D94-B638-1A4D51ED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2AAFAE-F3E9-483F-AD67-0D808630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4010C9-79C6-4612-8861-FCD4F31E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2757A5-8300-4D92-9208-AFE94CCA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51C100-0AA7-47A7-B396-14B76C05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7E4319-C8A7-4D0A-9A01-49C6F4D0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A5771E-2762-47B3-BA23-C1576E13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B3FEDC-B1D1-40D5-818C-7FAB7726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848C6F-BDF1-4009-AC9C-E6FC57A1F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8889-C06B-4469-95EB-EB53DF4F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855198-877C-4D9D-B1ED-2F091A31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463B08-0504-4EA1-9F5A-4E6036BB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D25ACC-2933-4505-BF54-FF99141E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D4EF35-14D4-48EC-BADF-4DEDCAF7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D18369-143B-4550-B550-E311E77A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771A76-FA94-472E-BE55-D07C506C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627151-95C8-4E15-9F50-C7CFCF3C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1AD318-FEF6-476B-830C-B7B4E5D5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AC62FB-D41C-4908-9258-8DE57FE2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C76AA3-B458-472E-956F-301BF1C4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F2B2-8DC9-4D39-BA81-B7A08545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4F5E52-BCBD-4FDF-8AD5-A067BB5F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2215C1-1C6D-425F-9903-B62E6EDE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61B3CB-7948-436D-97D5-AB96B685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BB4078-5C84-405E-912B-40AE3E54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1CCF44-6625-4198-BEC7-F586F495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CCED99-708D-4B86-A25A-9D5390A1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E5B6EA-4AB2-4609-9661-5FABBEAF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23EA04-1935-4F90-9E55-7C055C8D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92D3C8-1BAE-464C-993E-DA047D5A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BE6FAD-1E95-426B-94D5-BD68DA76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6BC2-A543-4379-B9DE-A92286FD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5CCE0C-7637-4AA2-8A4E-8285C824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A5F70E-FDE0-4897-99F4-60312664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AE4BE6-5579-44CF-B598-1D733771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642F5F-99C1-44B0-B95C-F327719B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598EA1-D5B2-49F0-8BA8-FDD739FA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A396-3DF8-4732-9419-9FED060C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F920-45DF-400A-A9AD-89B496D973C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E01F-62A0-4ACF-AE26-5D3CA300859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8697-EE03-423B-A890-173FDECD9C5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1FC8-5400-4081-8139-58D402FFFDE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60D5-2F0D-4B21-A5E5-BA6C0561DAF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FF81-2807-4107-9E7A-39474B891C4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2D20-96B4-45BD-B84E-FDB67813DB4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SWEETHEARTS </a:t>
            </a:r>
            <a:br>
              <a:rPr sz="3000"/>
            </a:b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BY SARA ZAR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       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"Life wasn't what you made it. You were what life made you."   -Jenna Vaugh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4" descr="E:\Huckaby, Melanie\image_sounds\Images\23161833.jpg"/>
          <p:cNvPicPr/>
          <p:nvPr/>
        </p:nvPicPr>
        <p:blipFill>
          <a:blip r:embed="rId1"/>
          <a:stretch/>
        </p:blipFill>
        <p:spPr>
          <a:xfrm>
            <a:off x="5334120" y="838080"/>
            <a:ext cx="3124080" cy="3886200"/>
          </a:xfrm>
          <a:prstGeom prst="rect">
            <a:avLst/>
          </a:prstGeom>
          <a:ln w="0">
            <a:noFill/>
          </a:ln>
        </p:spPr>
      </p:pic>
      <p:pic>
        <p:nvPicPr>
          <p:cNvPr id="354" name="Natural Beauty 30.mp3" descr=""/>
          <p:cNvPicPr/>
          <p:nvPr/>
        </p:nvPicPr>
        <p:blipFill>
          <a:blip r:embed="rId2"/>
          <a:stretch/>
        </p:blipFill>
        <p:spPr>
          <a:xfrm>
            <a:off x="8458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114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  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CHECK THIS AWESOME BOOK OUT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      AT OUR HPMS LIBRARY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     IN THE FICTION SECTION: 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                        FIC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                        ZA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Picture 2" descr="E:\Huckaby, Melanie\image_sounds\Images\june_sweethearts.JPG"/>
          <p:cNvPicPr/>
          <p:nvPr/>
        </p:nvPicPr>
        <p:blipFill>
          <a:blip r:embed="rId1"/>
          <a:stretch/>
        </p:blipFill>
        <p:spPr>
          <a:xfrm>
            <a:off x="3124080" y="2971800"/>
            <a:ext cx="29718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WHEN JENNIFER HARRIS BECOMES JENNA VAUGHN, HER DREAMS FOR HER “BEST LIFE” WILL COME TRUE…BUT WHAT WILL BE LOST?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Picture 4" descr="E:\Huckaby, Melanie\image_sounds\Images\25248268.jpg"/>
          <p:cNvPicPr/>
          <p:nvPr/>
        </p:nvPicPr>
        <p:blipFill>
          <a:blip r:embed="rId1"/>
          <a:stretch/>
        </p:blipFill>
        <p:spPr>
          <a:xfrm>
            <a:off x="1981080" y="2514600"/>
            <a:ext cx="4800600" cy="33526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ILL SHE TRUST HER MOM ENOUGH TO CONFIDE ABOUT A CHILDHOOD SECRET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8" name="Picture 4" descr="E:\Huckaby, Melanie\image_sounds\Images\24226108.jpg"/>
          <p:cNvPicPr/>
          <p:nvPr/>
        </p:nvPicPr>
        <p:blipFill>
          <a:blip r:embed="rId1"/>
          <a:stretch/>
        </p:blipFill>
        <p:spPr>
          <a:xfrm>
            <a:off x="2286000" y="1752480"/>
            <a:ext cx="3733920" cy="358164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4674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CAN A FRIENDSHIP SURVIVE THE TRANSITION FROM CHILDHOOD TO ADOLESCENCE?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Picture 4" descr="E:\Huckaby, Melanie\image_sounds\Images\25153469.jpg"/>
          <p:cNvPicPr/>
          <p:nvPr/>
        </p:nvPicPr>
        <p:blipFill>
          <a:blip r:embed="rId1"/>
          <a:stretch/>
        </p:blipFill>
        <p:spPr>
          <a:xfrm>
            <a:off x="2514600" y="2971800"/>
            <a:ext cx="3733920" cy="274176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ILL SHE HAVE TO CHOOSE BETWEEN HER GIRLFRIENDS AND HER BOYFRIEND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4" descr="E:\Huckaby, Melanie\image_sounds\Images\25060563.jpg"/>
          <p:cNvPicPr/>
          <p:nvPr/>
        </p:nvPicPr>
        <p:blipFill>
          <a:blip r:embed="rId1"/>
          <a:stretch/>
        </p:blipFill>
        <p:spPr>
          <a:xfrm>
            <a:off x="2895480" y="2590920"/>
            <a:ext cx="3200400" cy="236196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46748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       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HOULD LOYALTY HAVE LIMIT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Picture 4" descr="E:\Huckaby, Melanie\image_sounds\Images\25287036.jpg"/>
          <p:cNvPicPr/>
          <p:nvPr/>
        </p:nvPicPr>
        <p:blipFill>
          <a:blip r:embed="rId1"/>
          <a:stretch/>
        </p:blipFill>
        <p:spPr>
          <a:xfrm>
            <a:off x="2209680" y="2133720"/>
            <a:ext cx="3505320" cy="304776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WEETHEARTS IS A STORY ABOUT THE POWER OF MEMORY, THE BOND OF FRIENDSHIP, AND THE QUIET RESILIENCE OF OUR CHILDHOOD HEARTS.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Picture 4" descr="E:\Huckaby, Melanie\image_sounds\Images\23938260.jpg"/>
          <p:cNvPicPr/>
          <p:nvPr/>
        </p:nvPicPr>
        <p:blipFill>
          <a:blip r:embed="rId1"/>
          <a:stretch/>
        </p:blipFill>
        <p:spPr>
          <a:xfrm>
            <a:off x="2590920" y="2819520"/>
            <a:ext cx="3504960" cy="243684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ILL YOU STAY IN TOUCH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Picture 4" descr="E:\Huckaby, Melanie\image_sounds\Images\22169343.jpg"/>
          <p:cNvPicPr/>
          <p:nvPr/>
        </p:nvPicPr>
        <p:blipFill>
          <a:blip r:embed="rId1"/>
          <a:stretch/>
        </p:blipFill>
        <p:spPr>
          <a:xfrm>
            <a:off x="2209680" y="2209680"/>
            <a:ext cx="3886200" cy="28242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A 2008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CYBILS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FINALIST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AN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OPRAH BOOK CLUB KIDS READING LIST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PICK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AN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ALA BEST BOOK FOR YOUNG ADULTS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TARRED REVIEWS FROM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PUBLISHERS WEEKLY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,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BOOKLIST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,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VOYA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"...WISTFUL PROSE AND SKILLFULLY LAYERED CHARACTERS." -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HORN BOOK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Picture 4" descr="E:\Huckaby, Melanie\image_sounds\Images\24586295.jpg"/>
          <p:cNvPicPr/>
          <p:nvPr/>
        </p:nvPicPr>
        <p:blipFill>
          <a:blip r:embed="rId1"/>
          <a:stretch/>
        </p:blipFill>
        <p:spPr>
          <a:xfrm>
            <a:off x="2666880" y="457200"/>
            <a:ext cx="3505320" cy="21304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49:28Z</dcterms:created>
  <dc:creator>esc8859</dc:creator>
  <dc:description/>
  <dc:language>en-US</dc:language>
  <cp:lastModifiedBy>esc8859</cp:lastModifiedBy>
  <dcterms:modified xsi:type="dcterms:W3CDTF">2009-07-02T19:22:47Z</dcterms:modified>
  <cp:revision>10</cp:revision>
  <dc:subject/>
  <dc:title>Sweethearts  by Sara Zarr</dc:title>
</cp:coreProperties>
</file>