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CF6-AEE5-4D85-ADEA-47741306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EAF-C8AF-47F3-9033-F4A63EB1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57D-8900-478E-BFF9-609A971A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243-6779-44C1-AF6D-1273C8F6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A6A1-6832-4B54-9CAE-BF030F30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CF7C-CA68-41EB-B982-F326AC9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2127-8CF5-41C7-B22A-D6F48EAD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C5B8-746B-454A-8DAC-3631C837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075-CF58-4000-B9EB-4D1F184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5E75-2395-4D0B-B0C6-C11E50F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1F99-00CC-45AF-9F09-DBE4AB5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F11-384A-4986-86FA-D9FD9709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BCA0-BAA5-4BD5-8B81-A4E40D5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0B62-CA51-474F-BC37-AC44980B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AEA1-4887-4D98-9523-2039292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7508-A22D-4556-A0D4-A647EC06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A66-D707-45F2-BBC4-1905025D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2C995-7358-4A1E-9B7F-153B7DC2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C2CC3-E9B2-4D09-AE48-8BF722AB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5047E-B5D8-4149-8A8D-493989C4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D57AF-1627-4ED6-97BA-07584D9C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83D4A-C7EB-4B26-A6A2-A33D4BE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8DB-2261-41D8-801C-2C0D5C5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9A425-FB35-48E2-9F47-BBCBC353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22822-244E-4EEE-A701-4395D21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9C90D-D8C4-4975-9BBD-A4D2B8F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8530F-4AF9-4247-AAB9-C5B1E9C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BEEDF-40E5-42B9-AD1D-C4CB6A74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0B46A-C46F-44CF-BF6E-70B7BBD9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EC1D5-A17E-4C1F-A4B9-71D17646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44C6-E00E-4CC5-BDBA-F5200332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CCD0-04A7-4007-BC62-4AB8F4F0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DB02-817D-4D64-B1BD-F3F8471C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54A-9261-4CDC-A4F1-2A90483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8C36-134A-4FB3-A402-69925AAA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1C032-B8FF-4CD1-B41C-42DB1051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DEA7-E144-41BD-BA5E-F18E5FD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05FF-E357-4CA9-9BA4-126EB801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FABF6-37D7-4A23-806F-440CAFC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255D-64F6-4E92-87F7-D53F9E69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8BFD-C93C-4C28-B5FE-E080EAAB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2251-8371-4310-9B83-F51045DD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9F03-6372-44BC-A379-D5A13BB4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D7F3E-6913-4BEC-97C9-A41EEEE2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C6D-044D-4478-A730-2F646B64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14D10-8212-4C6D-A42B-1989A5A6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30F8E-1A5C-418A-8E98-F703C707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DC4C7-C1C3-4942-B658-E3782A6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906A1-9FFE-4037-B6F2-1247CC0D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DBACF-FBD4-460F-9F34-0AD8E94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E3C48-A1F7-4043-9FA4-3E14F51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D9980-6F85-4B66-98BE-4CA7D8D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084A8-23B0-429C-837D-8331AC9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BDA85-66FF-45B6-91E8-98EDAE48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37EE6-9182-4D85-8960-C083ED0F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8E4-7312-40E2-9272-AA92B9A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1A555-7AEB-479F-B871-663E2D30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C621F-327C-4B80-BD0A-FAB941D9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E33D3-C1E0-4DD0-A9E1-3BB6D743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FFACC-5347-4E96-93CD-B557D854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3DBE1-1BB5-4C1F-8113-3BEBA2E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B9CED-0AE5-479F-8600-1931C3C3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A52A8-1923-48A8-A0C1-7EDA5D1B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84CCB-F9E2-45E6-963E-A1D7F66E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DCAC5-122A-4BDA-8F3F-F47EDAE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BC720-26C3-4780-8483-2006F028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3C2-BC14-449E-B397-479EC01C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C95A8-ACBE-4408-8A22-BB5D6BA0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BBC12-D9B9-438F-A189-2E7D1581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DB5D5-C83E-4AC1-B6F6-298FD727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3F642-4318-42DD-93BB-1A507942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D72D8-1A00-41E7-9ED6-0D442501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8AF5D-65B0-4998-B648-E0148FB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8137F-9C0C-404F-96AE-5CF2E1E5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5143A-FA7A-44C7-B0CE-45FD18D5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B81EF-9686-4797-A50C-04B71BD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5E0A6-6215-4B78-BC4F-E2B7317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6D8-02EF-4167-9EF4-0C08DCFE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1BF74-5184-4051-A076-F3FB6DA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42E76-A065-4D75-AB19-34724AE1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031CA-E0B9-49AB-8712-D51B5554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BAAE3-D1B5-46BA-98CB-7ADC749A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50AC1-8E2B-49A7-A3CA-64C9480F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45A-925F-4C3D-9025-E31AC13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6DAE-5BB8-4B89-8532-1FCFE6E0C5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E25-D634-488E-9EBB-00EA654C48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BE7-4D79-4D91-BDAC-56279F1042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BF89-E1C9-4BD3-8B1B-E78FACBA6C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9CBE-E638-4CD4-8F54-2E16C5C1DF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03DC-2D79-4962-A800-5579BC1DDD7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D000-BBCF-447A-AE0F-B656976B9E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WEETHEART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Y SARA ZAR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"Life wasn't what you made it. You were what life made you."   -Jenna Vaugh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E:\Huckaby, Melanie\image_sounds\Images\23161833.jpg"/>
          <p:cNvPicPr/>
          <p:nvPr/>
        </p:nvPicPr>
        <p:blipFill>
          <a:blip r:embed="rId1"/>
          <a:stretch/>
        </p:blipFill>
        <p:spPr>
          <a:xfrm>
            <a:off x="5334120" y="838080"/>
            <a:ext cx="3124080" cy="3886200"/>
          </a:xfrm>
          <a:prstGeom prst="rect">
            <a:avLst/>
          </a:prstGeom>
          <a:ln w="0">
            <a:noFill/>
          </a:ln>
        </p:spPr>
      </p:pic>
      <p:pic>
        <p:nvPicPr>
          <p:cNvPr id="354" name="Natural Beauty 30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HECK THIS AWESOME BOOK OU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AT OUR HPMS LIBRARY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IN THE FICTION SECTION: 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FI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                        ZA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E:\Huckaby, Melanie\image_sounds\Images\june_sweethearts.JPG"/>
          <p:cNvPicPr/>
          <p:nvPr/>
        </p:nvPicPr>
        <p:blipFill>
          <a:blip r:embed="rId1"/>
          <a:stretch/>
        </p:blipFill>
        <p:spPr>
          <a:xfrm>
            <a:off x="3124080" y="2971800"/>
            <a:ext cx="29718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HEN JENNIFER HARRIS BECOMES JENNA VAUGHN, HER DREAMS FOR HER “BEST LIFE” WILL COME TRUE…BUT WHAT WILL BE LOST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E:\Huckaby, Melanie\image_sounds\Images\25248268.jpg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TRUST HER MOM ENOUGH TO CONFIDE ABOUT A CHILDHOOD SECRE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4" descr="E:\Huckaby, Melanie\image_sounds\Images\24226108.jpg"/>
          <p:cNvPicPr/>
          <p:nvPr/>
        </p:nvPicPr>
        <p:blipFill>
          <a:blip r:embed="rId1"/>
          <a:stretch/>
        </p:blipFill>
        <p:spPr>
          <a:xfrm>
            <a:off x="2286000" y="1752480"/>
            <a:ext cx="3733920" cy="35816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CAN A FRIENDSHIP SURVIVE THE TRANSITION FROM CHILDHOOD TO ADOLESCENCE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4" descr="E:\Huckaby, Melanie\image_sounds\Images\25153469.jpg"/>
          <p:cNvPicPr/>
          <p:nvPr/>
        </p:nvPicPr>
        <p:blipFill>
          <a:blip r:embed="rId1"/>
          <a:stretch/>
        </p:blipFill>
        <p:spPr>
          <a:xfrm>
            <a:off x="2514600" y="2971800"/>
            <a:ext cx="3733920" cy="2741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SHE HAVE TO CHOOSE BETWEEN HER GIRLFRIENDS AND HER BOYFRIEN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4" descr="E:\Huckaby, Melanie\image_sounds\Images\25060563.jpg"/>
          <p:cNvPicPr/>
          <p:nvPr/>
        </p:nvPicPr>
        <p:blipFill>
          <a:blip r:embed="rId1"/>
          <a:stretch/>
        </p:blipFill>
        <p:spPr>
          <a:xfrm>
            <a:off x="2895480" y="25909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HOULD LOYALTY HAVE LIMIT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4" descr="E:\Huckaby, Melanie\image_sounds\Images\25287036.jpg"/>
          <p:cNvPicPr/>
          <p:nvPr/>
        </p:nvPicPr>
        <p:blipFill>
          <a:blip r:embed="rId1"/>
          <a:stretch/>
        </p:blipFill>
        <p:spPr>
          <a:xfrm>
            <a:off x="2209680" y="21337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WEETHEARTS IS A STORY ABOUT THE POWER OF MEMORY, THE BOND OF FRIENDSHIP, AND THE QUIET RESILIENCE OF OUR CHILDHOOD HEARTS.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E:\Huckaby, Melanie\image_sounds\Images\23938260.jpg"/>
          <p:cNvPicPr/>
          <p:nvPr/>
        </p:nvPicPr>
        <p:blipFill>
          <a:blip r:embed="rId1"/>
          <a:stretch/>
        </p:blipFill>
        <p:spPr>
          <a:xfrm>
            <a:off x="2590920" y="2819520"/>
            <a:ext cx="3504960" cy="243684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ILL YOU STAY IN TOUCH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4" descr="E:\Huckaby, Melanie\image_sounds\Images\22169343.jpg"/>
          <p:cNvPicPr/>
          <p:nvPr/>
        </p:nvPicPr>
        <p:blipFill>
          <a:blip r:embed="rId1"/>
          <a:stretch/>
        </p:blipFill>
        <p:spPr>
          <a:xfrm>
            <a:off x="2209680" y="220968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2008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CYBIL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FINALIST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OPRAH BOOK CLUB KIDS READING 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PICK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N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ALA BEST BOOK FOR YOUNG ADULTS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TARRED REVIEWS FROM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PUBLISHERS WEEKLY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BOOKLIST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VOYA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"...WISTFUL PROSE AND SKILLFULLY LAYERED CHARACTERS." -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RN BOO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E:\Huckaby, Melanie\image_sounds\Images\24586295.jpg"/>
          <p:cNvPicPr/>
          <p:nvPr/>
        </p:nvPicPr>
        <p:blipFill>
          <a:blip r:embed="rId1"/>
          <a:stretch/>
        </p:blipFill>
        <p:spPr>
          <a:xfrm>
            <a:off x="2666880" y="457200"/>
            <a:ext cx="3505320" cy="21304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49:28Z</dcterms:created>
  <dc:creator>esc8859</dc:creator>
  <dc:description/>
  <dc:language>en-US</dc:language>
  <cp:lastModifiedBy>esc8859</cp:lastModifiedBy>
  <dcterms:modified xsi:type="dcterms:W3CDTF">2009-07-02T19:22:47Z</dcterms:modified>
  <cp:revision>10</cp:revision>
  <dc:subject/>
  <dc:title>Sweethearts  by Sara Zarr</dc:title>
</cp:coreProperties>
</file>