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B409-1EE1-4CFE-B9EC-88ADC241D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1179-DC0E-46D4-9E70-06D0F462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E175-0093-4667-ABA5-52E49854C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1A7F-EAD5-4CAD-812F-24557BF69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C85F-6F26-430B-964D-86D1E8308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4091-5A56-4C40-B363-C6E972D6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0A59-4647-4FC8-9764-0F656DF0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9BE6-1EA3-44B2-BBA6-62F0EA98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F9D7-7519-433B-B425-0E68BD31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911A-F649-413F-A0C5-8812C054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7923-ECB9-4A68-8EB1-E4861D3D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B05F-7391-47C6-AD20-632A84A5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7759-D398-4AA3-853E-7FD67424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34AA-43BB-40FB-9F76-FF878BC6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28D6-43F2-4CAE-8381-CB1AE096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9CF0-4CC2-48FA-A825-3D5C8019F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9070-A853-465C-BF96-0107AA8BC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46411D-A6D9-4ED9-9B40-3C6B24BC8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966652-3CE8-47AB-8A4B-30939BAA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AB139C-8B72-4FA2-9E61-6A9E81AC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3EA8E2-B215-4550-AA37-F34D8AE4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CC04B8-54F8-404B-89AA-808DA531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762B-1A27-49AE-918B-FBA275DA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AAF644-90FF-4626-8035-DFC279D0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44634C-21FA-4344-9F89-785740AF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72C7C1-1728-4EC9-B92D-713B986C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E7DA87-744F-44A2-B0D3-39DB70E6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79C15A-8BC6-4AB5-9B1F-F094FBD4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788231-4117-4F6C-A6D7-39D6D3B4C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4A1C6A-3DA3-4983-AE3B-BC7EA558A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05E96-CF24-4227-96F0-E8C8F943C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31C69-26FF-4B5C-87D7-710A3943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835B9-544F-4379-8723-1E150629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DB6F-C93F-41B5-9F16-554C25B3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8192E-50DE-4631-85F8-12FB267B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BBBD4-AA25-40DF-BF3D-F5176C72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BE4C4-D04B-41AC-BAC8-13641138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79E50-D8EE-4AE6-A55A-7A2BD9A4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452CF-4DA4-41E0-8E56-32335579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CCA6A-AE84-4879-A70E-1B627357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67D77-8BB1-425C-A404-91055026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E2F42-1ACA-4E87-9A91-ED1DCFA3B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EBAE9-3F14-456C-A3C7-F7AD15612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B0E61A-B629-4AD8-89F7-67F14FF21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45C8-F502-4BFD-B1AB-CD0391F0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5B611F-4AFB-41F3-9E84-ED3A3984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780393-ED0F-478E-BE0C-0F9D0622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6DF112-3B92-4363-9E4E-0C2955C7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B1BA79-5083-4907-9E46-7F3D7A19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3360E2-69FB-49DA-82E0-E7B4A68C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C245C9-2072-4558-89A7-B40EE7EE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212050-74A2-4D32-B040-AA3A278A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4ECB52-9139-46F7-B0D7-894FCF0B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6A9454-F8DD-4662-9B38-EFABF6CC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D03D5D-C99C-4021-94C4-9EC1B100C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DB23-330C-4753-BA96-029A667B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1C6015-1025-45D7-903F-146A1E691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906015-6C1F-4770-8962-D8005D96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D0A173-6F20-41C6-9BF7-41399F4B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91B133-D98A-45E1-8FF9-345758CA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76BB7B-96B4-4D8C-9591-567C58B4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2CAD94-9580-458D-BCEF-AA33E799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2392B5-4A49-49E6-8B06-0C35C237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7A2549-B826-42B8-B6A3-B303B191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60D291-676F-4B43-8A31-06030104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0285F2-F3B4-4D88-8F48-3126ADB0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3DAB-7857-4532-BFDA-8BACD95F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9F25D6-286A-409F-9DA2-10ACDEC7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C8BEBD-B758-4CE4-AFDD-5ABD3D2E0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39A5E4-B456-4FE2-B598-6F46C7F08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360913-D2AD-4DA3-952F-6F1D17C2C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ADFFDF-6265-44DA-92FB-DECA1496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B27C61-A5AA-4A66-AF90-57CEE292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46E5EB-B634-449B-B165-28E03B00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CCC4E9-2706-4857-9178-17463DE9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096D75-AE1D-4227-9620-188F1017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BA49AC-B3CC-4F70-BEB7-151CD5F3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C95A-85EB-4B70-A1E3-BEF1B44D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D42568-44A7-4E90-A64F-46D7BAF6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11802D-6531-4D97-96D0-903D0DA6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A709D3-2497-4CED-A49F-0B5FBFC1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5DD325-B452-4D6E-AA25-414F83CA3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836C90-43EE-46E5-B74F-6546376EE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243B-646B-4CF3-B613-0D552B2A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818B-4713-48CE-819A-4E61C767695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6374-D0C8-41E6-B0BD-A8A2C42825B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D882-71BF-46C4-A8B7-151058885FA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E0C6-95AC-47EF-817A-3D0BB35E707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8268-2E68-4644-BCD9-6ED90BFE209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E81A-10E2-42C9-AED9-F63E2798546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690B-764E-42E8-81F7-9B66134DF40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SWEETHEARTS </a:t>
            </a:r>
            <a:br>
              <a:rPr sz="3000"/>
            </a:b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BY SARA ZAR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         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"Life wasn't what you made it. You were what life made you."   -Jenna Vaugh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4" descr="E:\Huckaby, Melanie\image_sounds\Images\23161833.jpg"/>
          <p:cNvPicPr/>
          <p:nvPr/>
        </p:nvPicPr>
        <p:blipFill>
          <a:blip r:embed="rId1"/>
          <a:stretch/>
        </p:blipFill>
        <p:spPr>
          <a:xfrm>
            <a:off x="5334120" y="838080"/>
            <a:ext cx="3124080" cy="3886200"/>
          </a:xfrm>
          <a:prstGeom prst="rect">
            <a:avLst/>
          </a:prstGeom>
          <a:ln w="0">
            <a:noFill/>
          </a:ln>
        </p:spPr>
      </p:pic>
      <p:pic>
        <p:nvPicPr>
          <p:cNvPr id="354" name="Natural Beauty 30.mp3" descr=""/>
          <p:cNvPicPr/>
          <p:nvPr/>
        </p:nvPicPr>
        <p:blipFill>
          <a:blip r:embed="rId2"/>
          <a:stretch/>
        </p:blipFill>
        <p:spPr>
          <a:xfrm>
            <a:off x="84582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114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 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    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          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CHECK THIS AWESOME BOOK OUT 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              AT OUR HPMS LIBRARY 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             IN THE FICTION SECTION:  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                                FIC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                                ZA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2" name="Picture 2" descr="E:\Huckaby, Melanie\image_sounds\Images\june_sweethearts.JPG"/>
          <p:cNvPicPr/>
          <p:nvPr/>
        </p:nvPicPr>
        <p:blipFill>
          <a:blip r:embed="rId1"/>
          <a:stretch/>
        </p:blipFill>
        <p:spPr>
          <a:xfrm>
            <a:off x="3124080" y="2971800"/>
            <a:ext cx="29718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advTm="5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WHEN JENNIFER HARRIS BECOMES JENNA VAUGHN, HER DREAMS FOR HER “BEST LIFE” WILL COME TRUE…BUT WHAT WILL BE LOST?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6" name="Picture 4" descr="E:\Huckaby, Melanie\image_sounds\Images\25248268.jpg"/>
          <p:cNvPicPr/>
          <p:nvPr/>
        </p:nvPicPr>
        <p:blipFill>
          <a:blip r:embed="rId1"/>
          <a:stretch/>
        </p:blipFill>
        <p:spPr>
          <a:xfrm>
            <a:off x="1981080" y="2514600"/>
            <a:ext cx="4800600" cy="335268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ILL SHE TRUST HER MOM ENOUGH TO CONFIDE ABOUT A CHILDHOOD SECRET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8" name="Picture 4" descr="E:\Huckaby, Melanie\image_sounds\Images\24226108.jpg"/>
          <p:cNvPicPr/>
          <p:nvPr/>
        </p:nvPicPr>
        <p:blipFill>
          <a:blip r:embed="rId1"/>
          <a:stretch/>
        </p:blipFill>
        <p:spPr>
          <a:xfrm>
            <a:off x="2286000" y="1752480"/>
            <a:ext cx="3733920" cy="358164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4674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CAN A FRIENDSHIP SURVIVE THE TRANSITION FROM CHILDHOOD TO ADOLESCENCE?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0" name="Picture 4" descr="E:\Huckaby, Melanie\image_sounds\Images\25153469.jpg"/>
          <p:cNvPicPr/>
          <p:nvPr/>
        </p:nvPicPr>
        <p:blipFill>
          <a:blip r:embed="rId1"/>
          <a:stretch/>
        </p:blipFill>
        <p:spPr>
          <a:xfrm>
            <a:off x="2514600" y="2971800"/>
            <a:ext cx="3733920" cy="274176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ILL SHE HAVE TO CHOOSE BETWEEN HER GIRLFRIENDS AND HER BOYFRIEND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Picture 4" descr="E:\Huckaby, Melanie\image_sounds\Images\25060563.jpg"/>
          <p:cNvPicPr/>
          <p:nvPr/>
        </p:nvPicPr>
        <p:blipFill>
          <a:blip r:embed="rId1"/>
          <a:stretch/>
        </p:blipFill>
        <p:spPr>
          <a:xfrm>
            <a:off x="2895480" y="2590920"/>
            <a:ext cx="3200400" cy="236196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46748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       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HOULD LOYALTY HAVE LIMIT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4" name="Picture 4" descr="E:\Huckaby, Melanie\image_sounds\Images\25287036.jpg"/>
          <p:cNvPicPr/>
          <p:nvPr/>
        </p:nvPicPr>
        <p:blipFill>
          <a:blip r:embed="rId1"/>
          <a:stretch/>
        </p:blipFill>
        <p:spPr>
          <a:xfrm>
            <a:off x="2209680" y="2133720"/>
            <a:ext cx="3505320" cy="304776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WEETHEARTS IS A STORY ABOUT THE POWER OF MEMORY, THE BOND OF FRIENDSHIP, AND THE QUIET RESILIENCE OF OUR CHILDHOOD HEARTS.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6" name="Picture 4" descr="E:\Huckaby, Melanie\image_sounds\Images\23938260.jpg"/>
          <p:cNvPicPr/>
          <p:nvPr/>
        </p:nvPicPr>
        <p:blipFill>
          <a:blip r:embed="rId1"/>
          <a:stretch/>
        </p:blipFill>
        <p:spPr>
          <a:xfrm>
            <a:off x="2590920" y="2819520"/>
            <a:ext cx="3504960" cy="243684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ILL YOU STAY IN TOUCH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8" name="Picture 4" descr="E:\Huckaby, Melanie\image_sounds\Images\22169343.jpg"/>
          <p:cNvPicPr/>
          <p:nvPr/>
        </p:nvPicPr>
        <p:blipFill>
          <a:blip r:embed="rId1"/>
          <a:stretch/>
        </p:blipFill>
        <p:spPr>
          <a:xfrm>
            <a:off x="2209680" y="2209680"/>
            <a:ext cx="3886200" cy="282420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A 2008 </a:t>
            </a: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CYBILS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FINALIST 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AN </a:t>
            </a: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OPRAH BOOK CLUB KIDS READING LIST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PICK 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AN </a:t>
            </a: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ALA BEST BOOK FOR YOUNG ADULTS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TARRED REVIEWS FROM </a:t>
            </a: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PUBLISHERS WEEKLY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, </a:t>
            </a: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BOOKLIST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, </a:t>
            </a: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VOYA 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"...WISTFUL PROSE AND SKILLFULLY LAYERED CHARACTERS." - </a:t>
            </a: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HORN BOOK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0" name="Picture 4" descr="E:\Huckaby, Melanie\image_sounds\Images\24586295.jpg"/>
          <p:cNvPicPr/>
          <p:nvPr/>
        </p:nvPicPr>
        <p:blipFill>
          <a:blip r:embed="rId1"/>
          <a:stretch/>
        </p:blipFill>
        <p:spPr>
          <a:xfrm>
            <a:off x="2666880" y="457200"/>
            <a:ext cx="3505320" cy="213048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5:49:28Z</dcterms:created>
  <dc:creator>esc8859</dc:creator>
  <dc:description/>
  <dc:language>en-US</dc:language>
  <cp:lastModifiedBy>esc8859</cp:lastModifiedBy>
  <dcterms:modified xsi:type="dcterms:W3CDTF">2009-07-02T19:22:47Z</dcterms:modified>
  <cp:revision>10</cp:revision>
  <dc:subject/>
  <dc:title>Sweethearts  by Sara Zarr</dc:title>
</cp:coreProperties>
</file>