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7A58-3461-4B36-A434-4803F6DD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4E5-3E7B-4616-AF05-81A40EDA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3C18-7360-409E-AC14-7DE47C0F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D01B-02D4-408D-9BE0-82CBCB0C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B735-C634-4DEF-BFE4-4BE827BD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610F-9A8B-418F-8434-E192B0C7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7F49-56F0-4B4E-8BDA-6B57AABC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7D7A-A444-4DD3-8294-5BA4458F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9B9F-67DE-4F7F-A209-35C8C774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4815-551F-4BC2-AB6A-02497E00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ED5C-7EC1-41DE-AD9E-B8D04DB2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072-88A7-4BDD-B7E1-2BBC32FE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E963-49F0-4079-AD10-CD67BA80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609B-477D-4A99-A090-DB2FDBD5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E7F3-A03F-40E0-8DDA-3382E1E1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DFBC-9D2B-4794-AB9B-BA10D1C7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664D-F0DB-43BC-AC2D-CF66EA34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D2943-05C6-48F6-BB61-E71D138D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D3AFE-8632-42A5-A741-A853A195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4D33F-098B-4B2C-B7C0-6A1BD98E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9A46E-1C9A-48E6-8CFE-54954154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D3312-69D3-4BDE-973A-48D4595F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003-ABFE-4874-A8ED-2CFFE2DB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5A1BA-E2EA-4DDB-8108-B2393736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DF717-F9D1-4CE5-9CD5-259C23B6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E9027-71FB-4AE1-BE7D-EB1ED50E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DCB8B7-4CB7-48DC-8410-31D2641B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76D89-5ADD-4CC9-B0B7-88507ED4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3B64C-4D99-45E9-AF9D-E5225BF1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3BF2A-EE07-4D60-9DC1-3C69710C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645EF-D44E-409E-80FE-458B8D3C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BC8C8-BFD4-4A96-A536-E3EF84F7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89A58-EA07-4328-8F8A-A73AA904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4231-AF83-40E8-99AC-14559C91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A7401-8380-49C0-A65E-9F975D49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2C0D0-6661-4D2F-81A9-9A96F447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8899C-4F87-4ED4-B23A-0B12D691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35C7C-EE74-45B0-BAB2-B2FEE4CC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B68EB-A46D-4F4F-A7A3-8E088749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398EC-BC7C-4EA7-A60C-56186425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7BCAA-3A3E-4A47-943D-8732EF04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09DB5-773A-4D67-A0E3-96B16346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A7523-74F0-4C6E-A311-7C1BAE63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2A1933-860A-4224-B0CB-176E7338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FA5-32A3-4622-BCD4-3FC276AD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827E97-4658-4E06-82EF-5D789CF9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E85DF8-49E1-48D7-9EF3-DC5D06DE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57A098-EC76-484F-AFD8-F7B39908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23656-839D-402C-875A-B7B9FF90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C30E3D-0B27-4A68-B105-5FAAF45E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F97558-DE0E-4155-82B1-6EAC6A92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596D62-A8CF-4CEA-8332-8402A610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9D92C7-12CA-4FDB-A952-3D2CCB1B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5CAC5C-DCCC-4E49-8965-CBCB6B61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901FA-1710-4CFD-A3E4-957FDC33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630-43D3-4B94-83C4-2DC91FAC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DE5044-6576-482E-B97D-71B8724F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C9A708-85F4-4681-B8F5-09A11A79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30B038-5E4A-440E-8C7F-EB6B71AA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012A82-DD9D-4C75-8E5E-8F606623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1E2586-47BA-4FBB-BC56-66C46C7C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361CD4-61CE-4DAC-9EEA-058192C9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493652-7493-4C89-B383-D0B8D2BB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51B59E-4BBB-4266-ADDC-6DE22193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C0D80E-1E45-46F1-BE86-296FF0E4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7C9BF9-8769-4662-946B-D25CB259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4C50-7AE8-4E8A-A51D-4C3D5E4F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3ED329-E5E5-4497-A0A2-6230775E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9B4E4F-7A44-4D23-81A0-0AD2C6E0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A57179-16DD-478E-86F1-EF99FAFE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AA6CEA-8796-4B81-837D-DD02E416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B91005-7B13-4342-99F8-774DAF52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FE22AB-245C-4C34-89B0-DC37B5A8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1CDE66-0E0E-4D56-9E5A-32C57811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487E76-3E2F-433A-BAD2-797D2703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31929E-BA6F-4D65-AF65-D746E0E4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E6ED05-9FB8-4C38-8230-A289B9DA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F56-129A-4F4D-B2CF-FB35721B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401C1D-C2A6-4858-A35F-9EDA842C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51528D-39D1-400F-BA35-57485381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6DBE9C-DAF1-4D45-A044-5E50F824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1D5635-0448-4C64-8A7B-FA0B2FF2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A81B36-B4A2-42C7-AF45-7D14E25C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3B29-9CE5-4602-BA04-07FF317D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5E66-62E5-4D8E-84E7-3410A5FC7B5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B56A-83F8-4477-B4C6-F332909FD9F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669A-D9CE-44FC-A3C4-AD31B79BB88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B6AC-44F6-4118-A551-E0F8ECA9466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4D8B-0973-4672-9349-0E88BE3713F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7610-A231-4614-894F-632A96F08C5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A0A9-9A62-42EA-B1D3-A068DFA2C20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SWEETHEARTS </a:t>
            </a:r>
            <a:br>
              <a:rPr sz="3000"/>
            </a:b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BY SARA ZAR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       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"Life wasn't what you made it. You were what life made you."   -Jenna Vaugh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4" descr="E:\Huckaby, Melanie\image_sounds\Images\23161833.jpg"/>
          <p:cNvPicPr/>
          <p:nvPr/>
        </p:nvPicPr>
        <p:blipFill>
          <a:blip r:embed="rId1"/>
          <a:stretch/>
        </p:blipFill>
        <p:spPr>
          <a:xfrm>
            <a:off x="5334120" y="838080"/>
            <a:ext cx="3124080" cy="3886200"/>
          </a:xfrm>
          <a:prstGeom prst="rect">
            <a:avLst/>
          </a:prstGeom>
          <a:ln w="0">
            <a:noFill/>
          </a:ln>
        </p:spPr>
      </p:pic>
      <p:pic>
        <p:nvPicPr>
          <p:cNvPr id="354" name="Natural Beauty 30.mp3" descr=""/>
          <p:cNvPicPr/>
          <p:nvPr/>
        </p:nvPicPr>
        <p:blipFill>
          <a:blip r:embed="rId2"/>
          <a:stretch/>
        </p:blipFill>
        <p:spPr>
          <a:xfrm>
            <a:off x="8458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14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CHECK THIS AWESOME BOOK OUT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    AT OUR HPMS LIBRARY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   IN THE FICTION SECTION: 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                      FIC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                      ZA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E:\Huckaby, Melanie\image_sounds\Images\june_sweethearts.JPG"/>
          <p:cNvPicPr/>
          <p:nvPr/>
        </p:nvPicPr>
        <p:blipFill>
          <a:blip r:embed="rId1"/>
          <a:stretch/>
        </p:blipFill>
        <p:spPr>
          <a:xfrm>
            <a:off x="3124080" y="2971800"/>
            <a:ext cx="29718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WHEN JENNIFER HARRIS BECOMES JENNA VAUGHN, HER DREAMS FOR HER “BEST LIFE” WILL COME TRUE…BUT WHAT WILL BE LOST?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Picture 4" descr="E:\Huckaby, Melanie\image_sounds\Images\25248268.jpg"/>
          <p:cNvPicPr/>
          <p:nvPr/>
        </p:nvPicPr>
        <p:blipFill>
          <a:blip r:embed="rId1"/>
          <a:stretch/>
        </p:blipFill>
        <p:spPr>
          <a:xfrm>
            <a:off x="1981080" y="2514600"/>
            <a:ext cx="4800600" cy="33526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ILL SHE TRUST HER MOM ENOUGH TO CONFIDE ABOUT A CHILDHOOD SECRET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8" name="Picture 4" descr="E:\Huckaby, Melanie\image_sounds\Images\24226108.jpg"/>
          <p:cNvPicPr/>
          <p:nvPr/>
        </p:nvPicPr>
        <p:blipFill>
          <a:blip r:embed="rId1"/>
          <a:stretch/>
        </p:blipFill>
        <p:spPr>
          <a:xfrm>
            <a:off x="2286000" y="1752480"/>
            <a:ext cx="3733920" cy="358164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4674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CAN A FRIENDSHIP SURVIVE THE TRANSITION FROM CHILDHOOD TO ADOLESCENCE?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Picture 4" descr="E:\Huckaby, Melanie\image_sounds\Images\25153469.jpg"/>
          <p:cNvPicPr/>
          <p:nvPr/>
        </p:nvPicPr>
        <p:blipFill>
          <a:blip r:embed="rId1"/>
          <a:stretch/>
        </p:blipFill>
        <p:spPr>
          <a:xfrm>
            <a:off x="2514600" y="2971800"/>
            <a:ext cx="3733920" cy="27417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ILL SHE HAVE TO CHOOSE BETWEEN HER GIRLFRIENDS AND HER BOYFRIEND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4" descr="E:\Huckaby, Melanie\image_sounds\Images\25060563.jpg"/>
          <p:cNvPicPr/>
          <p:nvPr/>
        </p:nvPicPr>
        <p:blipFill>
          <a:blip r:embed="rId1"/>
          <a:stretch/>
        </p:blipFill>
        <p:spPr>
          <a:xfrm>
            <a:off x="2895480" y="2590920"/>
            <a:ext cx="3200400" cy="23619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46748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HOULD LOYALTY HAVE LIMIT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4" descr="E:\Huckaby, Melanie\image_sounds\Images\25287036.jpg"/>
          <p:cNvPicPr/>
          <p:nvPr/>
        </p:nvPicPr>
        <p:blipFill>
          <a:blip r:embed="rId1"/>
          <a:stretch/>
        </p:blipFill>
        <p:spPr>
          <a:xfrm>
            <a:off x="2209680" y="2133720"/>
            <a:ext cx="3505320" cy="30477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WEETHEARTS IS A STORY ABOUT THE POWER OF MEMORY, THE BOND OF FRIENDSHIP, AND THE QUIET RESILIENCE OF OUR CHILDHOOD HEARTS.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Picture 4" descr="E:\Huckaby, Melanie\image_sounds\Images\23938260.jpg"/>
          <p:cNvPicPr/>
          <p:nvPr/>
        </p:nvPicPr>
        <p:blipFill>
          <a:blip r:embed="rId1"/>
          <a:stretch/>
        </p:blipFill>
        <p:spPr>
          <a:xfrm>
            <a:off x="2590920" y="2819520"/>
            <a:ext cx="3504960" cy="243684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ILL YOU STAY IN TOUCH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4" descr="E:\Huckaby, Melanie\image_sounds\Images\22169343.jpg"/>
          <p:cNvPicPr/>
          <p:nvPr/>
        </p:nvPicPr>
        <p:blipFill>
          <a:blip r:embed="rId1"/>
          <a:stretch/>
        </p:blipFill>
        <p:spPr>
          <a:xfrm>
            <a:off x="2209680" y="2209680"/>
            <a:ext cx="3886200" cy="28242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 2008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CYBILS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FINALIST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N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OPRAH BOOK CLUB KIDS READING LIST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PICK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N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ALA BEST BOOK FOR YOUNG ADULTS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TARRED REVIEWS FROM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PUBLISHERS WEEKLY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,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BOOKLIST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,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VOYA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"...WISTFUL PROSE AND SKILLFULLY LAYERED CHARACTERS." -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HORN BOOK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Picture 4" descr="E:\Huckaby, Melanie\image_sounds\Images\24586295.jpg"/>
          <p:cNvPicPr/>
          <p:nvPr/>
        </p:nvPicPr>
        <p:blipFill>
          <a:blip r:embed="rId1"/>
          <a:stretch/>
        </p:blipFill>
        <p:spPr>
          <a:xfrm>
            <a:off x="2666880" y="457200"/>
            <a:ext cx="3505320" cy="21304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49:28Z</dcterms:created>
  <dc:creator>esc8859</dc:creator>
  <dc:description/>
  <dc:language>en-US</dc:language>
  <cp:lastModifiedBy>esc8859</cp:lastModifiedBy>
  <dcterms:modified xsi:type="dcterms:W3CDTF">2009-07-02T19:22:47Z</dcterms:modified>
  <cp:revision>10</cp:revision>
  <dc:subject/>
  <dc:title>Sweethearts  by Sara Zarr</dc:title>
</cp:coreProperties>
</file>