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69E1-68E2-4123-82B9-D6DF5351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F42D-6810-49EC-A25C-C2100E82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0D8-6CFB-47F5-8D21-63BDAD95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F14F-329F-42A7-B76A-334276FC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4AC6-EEFB-468C-83D2-837A6162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E4AA-C1F4-42A7-96B1-CDCC9E82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7B88-0D05-4BBF-943E-0A414D08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9833-20B3-45E0-8CB6-B35E70D1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943D-8D6E-4549-887C-F10F644D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19AB-9169-414A-B61E-0E4C7DE9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0196-42D7-438E-9299-379672F5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90A2-87E6-4342-9A2C-7EB8B609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43C3-8A8E-4684-9D84-E0F634C1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578B-FEB3-4F97-B7D0-3FAB50D4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C180-E86E-4DFB-AB70-8BCB880E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E11B-E48E-4C7B-ABB0-53C8534D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A39E-F255-4C40-82C8-4CA9B2B2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4B7C5-42EF-4F10-90C2-4E99F74C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74A67-9AF5-4777-9890-A46EBC77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3D499-F12D-4BA2-9BE6-D290D11A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0C381-9B6C-4678-A764-201414BB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CBA4C-8FAA-4EE4-9E02-353148A7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FADC-D000-49FF-96F0-ED9A22EE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A9D55-0B50-4352-BE2E-481A16F2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4B0AD-F4A0-4A09-8A05-D7E911E5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3C4F2-98FE-4035-8DB6-7604BB65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1EDB1-2CAF-4BFB-A967-F9741B24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382F8-A546-4C2B-B428-8DA6953F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E681B-2586-436C-A177-9FFE025E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EDC412-A526-47A7-B246-BB7A3126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2C170-D761-4B0A-BECB-80CA6DC5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DAAB1-E841-4532-94E6-320C0944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F8DD6-B437-44E9-888F-4BA56908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4D25-971C-4A3B-BB92-179F9329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DEEBD-3582-47C2-A370-8D07710D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20477-FB31-431F-912D-2533ACF8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2DD7A-6EDC-45D9-9A2E-533D84A2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A1449-A4E7-410E-B6EA-255DFDAF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E78FB-55EF-42BD-AE27-AE5D2401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B64C9-C809-46B9-91BE-B83E5DAC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E13CC-3AC4-4CF8-AE0D-1E635FCA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A49ED-E540-4695-8CCA-35A1F144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81BCD-95E8-4868-B7F8-70E2B373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6B811F-2174-4B45-BFA7-52F1CD15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E64F-4FE4-4CDE-8092-0B4537F4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E4289F-8E9D-43D8-ADBD-2C6A1586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8B023-5DF7-41EE-88B4-117198F1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D71F36-D176-43BA-AB42-D5A9F39A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DFEED5-34C4-4D45-A487-9C534F97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35FE4-388E-4CEF-9C70-BF70A36B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66678F-FCF8-476B-8062-603C8008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8F5CD-0585-4A96-A933-BB840271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23FCDA-D38B-4846-A93B-D167F525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48EF91-B8E7-447B-80A6-F25D396D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71DBD-E897-40A0-8E68-D1163104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B6D4-C47E-485A-BBF2-FFAAE422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1724F4-77B2-46A2-B448-65291656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243728-EDB8-40F3-A666-C569A43C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EBF3B5-EE83-4295-AED4-61ABEBCD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E8F1B7-D9AD-4E44-A14E-AACF37BE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F1492E-38A0-4C3F-A55F-DCB7D35C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C79923-7A76-4BFD-98BD-7A35EAA5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0667F1-C20D-4B8B-BEE5-AB2A0D8D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2160B4-B5EF-4E48-9004-5D42969D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00E26C-1F72-459E-9B5B-0D150504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69F28-65BD-48BA-8E9E-E0A632F9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25D-3CDB-455A-B4C4-E0D1B4F6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8A8E96-D28B-43E2-AFC5-F62B432F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49CB87-5C0A-4534-8A33-149A0BFD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D94106-6D23-47EB-8F99-A5A4D789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98E19A-16F4-4ABC-B395-CC1148DD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E8A674-2324-4633-A09E-BB19C280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CFD80B-A742-4D5E-9D09-CB138325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8C45CF-7949-422D-BCE4-02788DE8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E3F187-A00A-484A-B5F2-56BD48F6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F3A9AB-E002-4F54-96DE-C159BACA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415394-4396-45CB-9F61-215EE25B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1991-DC45-4D49-B6A4-CB5D0231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0D7B49-655F-41F4-91C9-E804A8FE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4C29D9-2CAC-4EED-B91D-37C05083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B25DFB-F47E-40B8-8DCF-4EA7A475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6631AA-B23D-471B-BB50-F396AE71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C2D424-8F32-44C1-8F6D-0F918EF2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1809-5835-44F5-9590-2CB04EBB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4B55-ADD1-4E2D-AB51-F19D3FC96B5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6126-5035-4D9D-A4C2-70DCA75F6B2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D22D-95F6-4773-A289-D13E1526922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0AB5-332C-493B-8BD5-CFFC628F5AA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16F9-82EE-4546-ABEA-E2DE1F0E964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0AD3-1842-41BC-90FE-0181F258581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8B0A-D47C-4750-A026-8FE7230EEDC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SWEETHEARTS </a:t>
            </a: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Y SARA ZAR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       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"Life wasn't what you made it. You were what life made you."   -Jenna Vaugh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4" descr="E:\Huckaby, Melanie\image_sounds\Images\23161833.jpg"/>
          <p:cNvPicPr/>
          <p:nvPr/>
        </p:nvPicPr>
        <p:blipFill>
          <a:blip r:embed="rId1"/>
          <a:stretch/>
        </p:blipFill>
        <p:spPr>
          <a:xfrm>
            <a:off x="5334120" y="838080"/>
            <a:ext cx="3124080" cy="3886200"/>
          </a:xfrm>
          <a:prstGeom prst="rect">
            <a:avLst/>
          </a:prstGeom>
          <a:ln w="0">
            <a:noFill/>
          </a:ln>
        </p:spPr>
      </p:pic>
      <p:pic>
        <p:nvPicPr>
          <p:cNvPr id="354" name="Natural Beauty 30.mp3" descr=""/>
          <p:cNvPicPr/>
          <p:nvPr/>
        </p:nvPicPr>
        <p:blipFill>
          <a:blip r:embed="rId2"/>
          <a:stretch/>
        </p:blipFill>
        <p:spPr>
          <a:xfrm>
            <a:off x="8458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14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CHECK THIS AWESOME BOOK OUT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 AT OUR HPMS LIBRARY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IN THE FICTION SECTION: 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                   FIC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                   ZA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E:\Huckaby, Melanie\image_sounds\Images\june_sweethearts.JPG"/>
          <p:cNvPicPr/>
          <p:nvPr/>
        </p:nvPicPr>
        <p:blipFill>
          <a:blip r:embed="rId1"/>
          <a:stretch/>
        </p:blipFill>
        <p:spPr>
          <a:xfrm>
            <a:off x="3124080" y="2971800"/>
            <a:ext cx="29718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WHEN JENNIFER HARRIS BECOMES JENNA VAUGHN, HER DREAMS FOR HER “BEST LIFE” WILL COME TRUE…BUT WHAT WILL BE LOST?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Picture 4" descr="E:\Huckaby, Melanie\image_sounds\Images\25248268.jpg"/>
          <p:cNvPicPr/>
          <p:nvPr/>
        </p:nvPicPr>
        <p:blipFill>
          <a:blip r:embed="rId1"/>
          <a:stretch/>
        </p:blipFill>
        <p:spPr>
          <a:xfrm>
            <a:off x="1981080" y="2514600"/>
            <a:ext cx="4800600" cy="33526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ILL SHE TRUST HER MOM ENOUGH TO CONFIDE ABOUT A CHILDHOOD SECRET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8" name="Picture 4" descr="E:\Huckaby, Melanie\image_sounds\Images\24226108.jpg"/>
          <p:cNvPicPr/>
          <p:nvPr/>
        </p:nvPicPr>
        <p:blipFill>
          <a:blip r:embed="rId1"/>
          <a:stretch/>
        </p:blipFill>
        <p:spPr>
          <a:xfrm>
            <a:off x="2286000" y="1752480"/>
            <a:ext cx="3733920" cy="358164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4674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CAN A FRIENDSHIP SURVIVE THE TRANSITION FROM CHILDHOOD TO ADOLESCENCE?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Picture 4" descr="E:\Huckaby, Melanie\image_sounds\Images\25153469.jpg"/>
          <p:cNvPicPr/>
          <p:nvPr/>
        </p:nvPicPr>
        <p:blipFill>
          <a:blip r:embed="rId1"/>
          <a:stretch/>
        </p:blipFill>
        <p:spPr>
          <a:xfrm>
            <a:off x="2514600" y="2971800"/>
            <a:ext cx="3733920" cy="27417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ILL SHE HAVE TO CHOOSE BETWEEN HER GIRLFRIENDS AND HER BOYFRIEND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4" descr="E:\Huckaby, Melanie\image_sounds\Images\25060563.jpg"/>
          <p:cNvPicPr/>
          <p:nvPr/>
        </p:nvPicPr>
        <p:blipFill>
          <a:blip r:embed="rId1"/>
          <a:stretch/>
        </p:blipFill>
        <p:spPr>
          <a:xfrm>
            <a:off x="2895480" y="2590920"/>
            <a:ext cx="3200400" cy="23619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46748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HOULD LOYALTY HAVE LIMIT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4" descr="E:\Huckaby, Melanie\image_sounds\Images\25287036.jpg"/>
          <p:cNvPicPr/>
          <p:nvPr/>
        </p:nvPicPr>
        <p:blipFill>
          <a:blip r:embed="rId1"/>
          <a:stretch/>
        </p:blipFill>
        <p:spPr>
          <a:xfrm>
            <a:off x="2209680" y="2133720"/>
            <a:ext cx="3505320" cy="30477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WEETHEARTS IS A STORY ABOUT THE POWER OF MEMORY, THE BOND OF FRIENDSHIP, AND THE QUIET RESILIENCE OF OUR CHILDHOOD HEARTS.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Picture 4" descr="E:\Huckaby, Melanie\image_sounds\Images\23938260.jpg"/>
          <p:cNvPicPr/>
          <p:nvPr/>
        </p:nvPicPr>
        <p:blipFill>
          <a:blip r:embed="rId1"/>
          <a:stretch/>
        </p:blipFill>
        <p:spPr>
          <a:xfrm>
            <a:off x="2590920" y="2819520"/>
            <a:ext cx="3504960" cy="243684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ILL YOU STAY IN TOUCH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4" descr="E:\Huckaby, Melanie\image_sounds\Images\22169343.jpg"/>
          <p:cNvPicPr/>
          <p:nvPr/>
        </p:nvPicPr>
        <p:blipFill>
          <a:blip r:embed="rId1"/>
          <a:stretch/>
        </p:blipFill>
        <p:spPr>
          <a:xfrm>
            <a:off x="2209680" y="2209680"/>
            <a:ext cx="3886200" cy="28242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 2008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CYBILS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FINALIST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N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OPRAH BOOK CLUB KIDS READING LIST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PICK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N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ALA BEST BOOK FOR YOUNG ADULTS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TARRED REVIEWS FROM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PUBLISHERS WEEKLY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,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BOOKLIST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,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VOYA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"...WISTFUL PROSE AND SKILLFULLY LAYERED CHARACTERS." -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HORN BOOK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Picture 4" descr="E:\Huckaby, Melanie\image_sounds\Images\24586295.jpg"/>
          <p:cNvPicPr/>
          <p:nvPr/>
        </p:nvPicPr>
        <p:blipFill>
          <a:blip r:embed="rId1"/>
          <a:stretch/>
        </p:blipFill>
        <p:spPr>
          <a:xfrm>
            <a:off x="2666880" y="457200"/>
            <a:ext cx="3505320" cy="2130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49:28Z</dcterms:created>
  <dc:creator>esc8859</dc:creator>
  <dc:description/>
  <dc:language>en-US</dc:language>
  <cp:lastModifiedBy>esc8859</cp:lastModifiedBy>
  <dcterms:modified xsi:type="dcterms:W3CDTF">2009-07-02T19:22:47Z</dcterms:modified>
  <cp:revision>10</cp:revision>
  <dc:subject/>
  <dc:title>Sweethearts  by Sara Zarr</dc:title>
</cp:coreProperties>
</file>